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B0F8-0417-4070-ADDA-AD7585C4A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1D72-904C-4908-A77C-9211C106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DE19-5FEE-40D7-9DAC-AD4D4317F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1E60-AB50-431E-BC0C-AC4CDDA11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E278-3A7B-484E-9A57-A62102EB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CBA1-F0B2-4B9B-86FD-8C9796AB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DD8C-5E4D-4CD2-A7C4-2159275A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AF61-8CB4-43E6-BE24-7A6ECFD3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8999-CC74-499C-A540-2993D6DF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1AB5-AA6D-49CE-B58E-CA2E22F2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79E1-DBCB-4DEC-8B34-A6C3EB8C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AF55-DFC8-41E2-8EDC-DAAAF67E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17B8-0BB2-4C3C-920B-1B9EEAAEE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Chiller"/>
              </a:rPr>
              <a:t>Liberia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Chiller"/>
              </a:rPr>
              <a:t>By: Brooke Godfrey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Of Liberia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eria’s population is 3,195,931 as of July 2007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eria declared i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July 16,1847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630760" y="2933640"/>
            <a:ext cx="3513240" cy="39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About the President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e President of Liberia 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Ellen Johnson-Sirlea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She was born in Monrovia!!! Otherwise known as the capitol of Liberia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62320" y="3733920"/>
            <a:ext cx="2933640" cy="3124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Imports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Exports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3 Facts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More Of My 3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3:12:28Z</dcterms:created>
  <dc:creator>brookegodfrey</dc:creator>
  <dc:description/>
  <dc:language>en-US</dc:language>
  <cp:lastModifiedBy>LCS_user</cp:lastModifiedBy>
  <dcterms:modified xsi:type="dcterms:W3CDTF">2008-11-07T15:53:06Z</dcterms:modified>
  <cp:revision>8</cp:revision>
  <dc:subject/>
  <dc:title>Liberia</dc:title>
</cp:coreProperties>
</file>